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E84-22EA-4A75-BB01-CE64FB8C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4D1-C514-44A0-A58D-52ADA19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18C-4BCC-47F4-AC9D-E367AD04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EEB-DB8E-482A-BDBC-F6FF81F4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8297-43D4-4BEC-995B-F1F9B93F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8720-5A8F-4661-A365-B8D319A6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7744-5A3C-4A0C-883F-8DFC8E68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8712-F6B6-42CC-8054-2CFB4F39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9496-D905-428A-96CC-B110546E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03B1-3992-49AA-A4FE-DDB3674E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A48B-243E-4D7C-9DC2-75A9C2AD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676-538B-40DA-BC46-8AFEE2EE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0B74-86A2-4454-A615-D2ACD8F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0F85-C6B3-4B6F-9742-AB70A53B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B8FF-5933-44B7-8356-3835182B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4B54-3020-493C-BA19-E9528C1F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E800-1524-458B-BAAF-7199912F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FEF-B9CB-4A0F-8D22-BE9450B3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7C7-CC99-4D3A-B90A-A9BB75F3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B89-58FC-422A-B40C-04C8ABEE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DFC-B1DD-441A-89E4-DA52A31E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AE4-0FB4-4624-8413-FD2BBD60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7F8-6E63-4B24-A78D-703679BF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6DB-CA81-480C-8A2C-B6F93CB1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3C5B0-C84C-48DF-AB1D-5A67E8795DF3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CDB62-5E02-48CF-94C4-3195D688CD51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4300"/>
            </a:b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757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Learning Intent – To be able to explain what the term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audienc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mean when planning a multi-media present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To plan the content of your multi-media presentation, making sure it i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suitabl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for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audienc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2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All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Create a word-processed list of points about themselv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Most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create a more detailed document with information about themselves yourself, such as your hobbies, likes, dislikes including images taken from the Interne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Some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use formatting techniques to improve the layout of the document and will also begin to plan/design out their work out as a storybo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Bookman Old Style"/>
              </a:rPr>
              <a:t>Success Criter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18:01Z</dcterms:created>
  <dc:creator>peter</dc:creator>
  <dc:description/>
  <dc:language>en-US</dc:language>
  <cp:lastModifiedBy>BRYAN, C (SHS Teacher)</cp:lastModifiedBy>
  <dcterms:modified xsi:type="dcterms:W3CDTF">2020-09-30T15:42:36Z</dcterms:modified>
  <cp:revision>34</cp:revision>
  <dc:subject/>
  <dc:title>All About Me Creating a Multimedia Presentation</dc:title>
</cp:coreProperties>
</file>